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49A-176F-4E9E-A607-A42CB468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0CC-7952-4118-BBEE-DE5D34B9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A3F-79CC-41DC-AD67-6AA29C75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80D-B83A-4B1F-9FE9-65E98C88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E15-7588-4526-AF48-09290EA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B3B-1507-4BF4-A90E-3208AE13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585-50A9-4249-92BF-55D076E5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B22-6078-4697-A500-3FAADD92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641-B45F-496E-988B-18251F16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92B-186A-4EA8-AE12-4645024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83E-E303-41B4-B11A-5D5359D9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098-F739-40B6-A5B2-E79A18B8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46A3-A95E-4C1D-9263-9AEB2D9FD1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286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rends and Dynamics of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uman Popul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Demographers also look at . . 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ahoma"/>
              </a:rPr>
              <a:t>Total fertility 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number of childre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om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have during child-bearing years (ages 15-4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ate varies from just over 1 (Japan, Italy) to around 7 (Niger, Mal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world fertility rate"/>
          <p:cNvPicPr/>
          <p:nvPr/>
        </p:nvPicPr>
        <p:blipFill>
          <a:blip r:embed="rId1"/>
          <a:stretch/>
        </p:blipFill>
        <p:spPr>
          <a:xfrm>
            <a:off x="4267080" y="2286000"/>
            <a:ext cx="47246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Fertility Rates (Cont’d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verage fertility rate for the world is </a:t>
            </a:r>
            <a:r>
              <a:rPr b="0" lang="en-US" sz="4000" spc="-1" strike="noStrike" u="sng">
                <a:solidFill>
                  <a:srgbClr val="ffff99"/>
                </a:solidFill>
                <a:uFillTx/>
                <a:latin typeface="Tahoma"/>
              </a:rPr>
              <a:t>2.5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ffff99"/>
                </a:solidFill>
                <a:uFillTx/>
                <a:latin typeface="Tahoma"/>
              </a:rPr>
              <a:t>1.8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 the U.S and in Bangladesh is 2.1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ertility rate across the globe has been on the decline over the past 50 years -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excep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 Africa.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n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Mexico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, the average family in 1975 had 7 children.  In 2018, the average was down to 2.18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Factors Affecting Birth/ </a:t>
            </a:r>
            <a:br>
              <a:rPr sz="3200"/>
            </a:b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Fertility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vailability of legal abor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vailability of reliable birth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ligious beliefs, traditions, and cultural n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mportance of children as part of the labor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verage age at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opulation Pyramid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nalytical tool, a bar graph, that allows to examine the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distrib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untry’s population by age and ge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s us something about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depende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young and ol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s us something about the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u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well (demographic momentum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sha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pyramid is determined by the crude birth ra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Population Pyrami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371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e of the pyramid varies for different countries according to age distribution of the population. The shape of the pyramid explains the follow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Times-Bold"/>
              </a:rPr>
              <a:t>Sex ratio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ntage of males and percentage of fem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Times-Bold"/>
              </a:rPr>
              <a:t>Age structu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ntage of each strat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imes-Bold"/>
              </a:rPr>
              <a:t>Life spa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 of the pyramid and shape of the ape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-Bold"/>
              </a:rPr>
              <a:t>4. Dependency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opulation1"/>
          <p:cNvPicPr/>
          <p:nvPr/>
        </p:nvPicPr>
        <p:blipFill>
          <a:blip r:embed="rId1"/>
          <a:stretch/>
        </p:blipFill>
        <p:spPr>
          <a:xfrm>
            <a:off x="304920" y="1219320"/>
            <a:ext cx="8481960" cy="424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429000" y="1219320"/>
            <a:ext cx="2209680" cy="30456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9000" r="0" b="0"/>
          <a:stretch/>
        </p:blipFill>
        <p:spPr>
          <a:xfrm>
            <a:off x="0" y="72216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imes New Roman"/>
              </a:rPr>
              <a:t>U.S. (slow grow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9000" r="0" b="0"/>
          <a:stretch/>
        </p:blipFill>
        <p:spPr>
          <a:xfrm>
            <a:off x="907920" y="838080"/>
            <a:ext cx="7097760" cy="554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imes New Roman"/>
              </a:rPr>
              <a:t>Tanzania, Africa (rapid grow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47920" y="838080"/>
            <a:ext cx="6019560" cy="53352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imes New Roman"/>
              </a:rPr>
              <a:t>Denmark (zero grow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61200" t="23400" r="0" b="12000"/>
          <a:stretch/>
        </p:blipFill>
        <p:spPr>
          <a:xfrm>
            <a:off x="1676520" y="720720"/>
            <a:ext cx="6172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Overpopul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crowdedTrain"/>
          <p:cNvPicPr/>
          <p:nvPr/>
        </p:nvPicPr>
        <p:blipFill>
          <a:blip r:embed="rId1"/>
          <a:stretch/>
        </p:blipFill>
        <p:spPr>
          <a:xfrm>
            <a:off x="522360" y="1157400"/>
            <a:ext cx="82375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I</a:t>
            </a:r>
            <a:r>
              <a:rPr b="0" lang="en-US" sz="3600" spc="-1" strike="noStrike">
                <a:solidFill>
                  <a:srgbClr val="ff9933"/>
                </a:solidFill>
                <a:latin typeface="Tahoma"/>
              </a:rPr>
              <a:t>f one were to analyze a series of world population density maps published over the past several decades, 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Tahoma"/>
              </a:rPr>
              <a:t>two important points emerge</a:t>
            </a:r>
            <a:r>
              <a:rPr b="0" lang="en-US" sz="3600" spc="-1" strike="noStrike">
                <a:solidFill>
                  <a:srgbClr val="ff9933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Population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istributed uniform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reas support large populations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ut of eve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ople in the world is from either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</a:rPr>
              <a:t>Ind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</a:rPr>
              <a:t>Chi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; other areas are very sparsely popul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Overpopulation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ld’s popula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2.5 people per sec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2050, the world’s population will be 9.1 billion and China &amp; India will account for half of th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9440" indent="-379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current growth rates, the world’s population in 2150 will be 244 billion… and in 2300 will be 134 trill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73360" indent="0">
              <a:spcBef>
                <a:spcPts val="700"/>
              </a:spcBef>
              <a:buNone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verpopulation…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ibuting facto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verpopu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of and accessibility of birth control method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barriers (religion; little choice for women; men wanting many children; preference of having boys; religious belief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incen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verpopulation…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4864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3960" indent="0"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onsequenc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overpopul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960" indent="0"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age of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age of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age of natural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lict /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0920" indent="-304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 of provision of government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Overpopulation…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" y="1447920"/>
            <a:ext cx="886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som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lu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overpopul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and inno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education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ccess to birth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limiting number of children people can ha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Overpopulation….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both the developing and the developed world, the number one solution to overpopulation is the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ducation of wom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not in the labour force have fertility rates more than twice than that of women in the labour forc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income women have half as many children as low income women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man with a college degree will have half as many children as a woman who did not pass from high schoo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533520" y="33012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ies to lower birth 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66680" y="1143000"/>
            <a:ext cx="7620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676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olun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ility of birth control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entives for small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685800"/>
            <a:ext cx="7620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r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-child poli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91640" y="4437000"/>
            <a:ext cx="639936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ment of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health care and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to child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Demographic Transition Mode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533520" y="228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Demographic Transition - Process of change in a society’s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15238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379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rip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79440" indent="-379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HASE ONE: “Pre-Modern Era”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th rates and death rates are high. The natural increase gap is small - population grows slowly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untry is really in stag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379440" indent="-379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HASE TWO: “Industrializing Era”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 rate declines and birth rate remains high. The natural increase gap becomes larger – population explosion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developing countries are currently in stage 2 or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mographic Transition ……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79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PHASE THREE:  “Mature Industrial”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th rate begins to decline and the death rate remains low.  The natural increase gap narrows – population explosion slow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ny developing countries are currently in stage 2 or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794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ASE FOUR: “Post-Industrial”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th rate and death rate tend to be low and steady.  The natural increase gap is small – slow population growth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developed countries are currently in stage 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-3794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part of original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-3794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eveloped countries are seeing declining rates of natural increase and are focusing on immigration to fill jo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-3794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few developed countries are in stage 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79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944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Demographic Transition Mode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mographic Transition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019160"/>
            <a:ext cx="8839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pulation patterns and rates of growth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hang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over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respect to growth rates, there are tremendous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dispariti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ound the world.  We live i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two very different demographic worlds,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ne relatively small, old, and wealthy (with very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hig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Arial"/>
              </a:rPr>
              <a:t>consump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ates per capita) and the other very large, young, and poor (with relative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lo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nsumption rates per capita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DCs account for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20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world population but consume the lion’s share of resources.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 countries (e.g., Denmark, Sweden) have reach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ZPG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(births plus immigration = deaths plus emigration);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s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egative growth rat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e.g., Italy, Germany, Hungary, Japa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DCs account for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80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world population.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 countries (esp. India, China, in the Middle East and Africa south of the Sahara) have ver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high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growth rat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Nigeria - the most populous country in Africa - had 33 million inhabitants in 1950.  By 2050, it is projected to have 300 mill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2025, MDCs will account for only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16%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world population. 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his is because over 90% of population growth over the next 30 years will occur in LD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esp. “hot spots”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fr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iddle Ea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Population Distributio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Historically, what has caused world population to grow?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n we look at world population growth over the past several thousand years, we see that it h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grown evenly.  There have been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ahoma"/>
              </a:rPr>
              <a:t>spur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sudden) in grow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purts in population growth (Three Revolution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8000 B.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Agricultural Revolution (plant and animal domestic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1750 A.D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Industrial Revolution (agricultural mechanization, transport, sanitation, heal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1950 A.D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Medical Revolution (elimination of many historical causes of de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And it keeps on growing . . 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took all of hum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y to reach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</a:rPr>
              <a:t>1 bill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in 1804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only took 150 years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h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</a:rPr>
              <a:t>3 bill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y 196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population has mo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n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</a:rPr>
              <a:t>doub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ince 196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world population"/>
          <p:cNvPicPr/>
          <p:nvPr/>
        </p:nvPicPr>
        <p:blipFill>
          <a:blip r:embed="rId1"/>
          <a:stretch/>
        </p:blipFill>
        <p:spPr>
          <a:xfrm>
            <a:off x="4343400" y="2109960"/>
            <a:ext cx="46483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How do we measure population changes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</a:rPr>
              <a:t>Rate of Natural Increa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Percentage by which a population grows in a year (birth rate minus death rate).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e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take migration into account.  Current rate is abou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1.14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% for the wor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</a:rPr>
              <a:t>Doubling 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umber of years needed to double a population.  Current doubling time is abou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61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years for the world (in the 1960s it was 35 year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evidence suggests . .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population growth is slowing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doubling time is increa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Demographers also look at . . 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ahoma"/>
              </a:rPr>
              <a:t>crude birth 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total number of live births in a year per 1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ahoma"/>
              </a:rPr>
              <a:t>crude death 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total number of deaths in a year per 1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birth rate"/>
          <p:cNvPicPr/>
          <p:nvPr/>
        </p:nvPicPr>
        <p:blipFill>
          <a:blip r:embed="rId1"/>
          <a:stretch/>
        </p:blipFill>
        <p:spPr>
          <a:xfrm>
            <a:off x="4927680" y="1981080"/>
            <a:ext cx="347796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eath rate"/>
          <p:cNvPicPr/>
          <p:nvPr/>
        </p:nvPicPr>
        <p:blipFill>
          <a:blip r:embed="rId2"/>
          <a:stretch/>
        </p:blipFill>
        <p:spPr>
          <a:xfrm>
            <a:off x="4940280" y="4114800"/>
            <a:ext cx="3452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2:12:24Z</dcterms:created>
  <dc:creator>User</dc:creator>
  <dc:description/>
  <dc:language>en-US</dc:language>
  <cp:lastModifiedBy>Islam</cp:lastModifiedBy>
  <dcterms:modified xsi:type="dcterms:W3CDTF">2025-03-19T14:01:06Z</dcterms:modified>
  <cp:revision>150</cp:revision>
  <dc:subject/>
  <dc:title>Demographics of Bangladesh</dc:title>
</cp:coreProperties>
</file>